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721040"/>
            <a:ext cx="585144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9118080"/>
            <a:ext cx="3168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2665-E1EC-4E84-BF57-0246A1ACBD3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7247-7E8B-427B-9918-E7EE0AFE996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9118080"/>
            <a:ext cx="3168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68280" y="72540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99960" y="4417560"/>
            <a:ext cx="65088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GOLDl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01. Mar. 2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1200" y="38160"/>
            <a:ext cx="6724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EGOLDlite</a:t>
            </a:r>
            <a:br>
              <a:rPr sz="2400"/>
            </a:b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DORADO DS 03.0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467000"/>
          <a:ext cx="91440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67000"/>
                    <a:ext cx="9144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OLD Li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s to get DORADO DS 03.06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70000" y="1235160"/>
            <a:ext cx="8517960" cy="4989960"/>
            <a:chOff x="270000" y="1235160"/>
            <a:chExt cx="8517960" cy="4989960"/>
          </a:xfrm>
        </p:grpSpPr>
        <p:sp>
          <p:nvSpPr>
            <p:cNvPr id="98" name=""/>
            <p:cNvSpPr/>
            <p:nvPr/>
          </p:nvSpPr>
          <p:spPr>
            <a:xfrm>
              <a:off x="270000" y="1235160"/>
              <a:ext cx="8517960" cy="498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3360" y="1235160"/>
              <a:ext cx="8429040" cy="49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easures to get DS on 03.06.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Use synergies between LIBRA and DORADO.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- DORADO uses same PCB like LIBRA. Almost same population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- SW is 90% same like LIBR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Delta TA based on LIBRA instead of full 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ilot Run w/o S3-HW as DORADO bases on LIBRA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(Like in LEOPRA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Work on the weekend and over May festiva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  <a:ea typeface="SimSun"/>
                </a:rPr>
                <a:t>PRECONDITIO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  <a:ea typeface="SimSun"/>
                </a:rPr>
                <a:t>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  <a:ea typeface="SimSun"/>
                </a:rPr>
                <a:t>ONLY WHEN LIBRA RUN SMOOTHLY IN THE PILOT SERIES DORADO CAN DO AS WELL!!!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1800" y="19044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d2435"/>
                </a:solidFill>
                <a:latin typeface="Arial"/>
              </a:rPr>
              <a:t>85 product project highligh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398960" y="20739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1660320" y="212724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1660320" y="23400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1660320" y="192384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200" y="1998720"/>
            <a:ext cx="1247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amin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965240" y="1292400"/>
            <a:ext cx="6765480" cy="1772280"/>
            <a:chOff x="1965240" y="1292400"/>
            <a:chExt cx="6765480" cy="1772280"/>
          </a:xfrm>
        </p:grpSpPr>
        <p:sp>
          <p:nvSpPr>
            <p:cNvPr id="107" name=""/>
            <p:cNvSpPr/>
            <p:nvPr/>
          </p:nvSpPr>
          <p:spPr>
            <a:xfrm>
              <a:off x="1965240" y="1292400"/>
              <a:ext cx="6765480" cy="177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15640" y="1292400"/>
              <a:ext cx="6695280" cy="17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alpha 03.11.04 </a:t>
              </a:r>
              <a:r>
                <a:rPr b="1" lang="en-GB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15  17.03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4  19.10.0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0  10.12.04 </a:t>
              </a:r>
              <a:r>
                <a:rPr b="1" lang="en-GB" sz="1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2   26.05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3  08.11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0   23.12.05 </a:t>
              </a:r>
              <a:r>
                <a:rPr b="1" lang="en-GB" sz="1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25 21.07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1  28.01.05 </a:t>
              </a:r>
              <a:r>
                <a:rPr b="1" lang="en-GB" sz="1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3   30.08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KA</a:t>
              </a:r>
              <a:r>
                <a:rPr b="1" i="1" lang="en-US" sz="1200" spc="-1" strike="noStrike" baseline="30000">
                  <a:solidFill>
                    <a:srgbClr val="000000"/>
                  </a:solidFill>
                  <a:latin typeface="Arial"/>
                  <a:ea typeface="Arial Unicode MS"/>
                </a:rPr>
                <a:t>1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30.11.05 (150k, VK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1 was declared on 28.01.0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1 prototype shop was finished and the A1 prototype evaluation is ongoin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00% of MD data has been finish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F PPL issue needs to be closed ASA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77800" y="6389640"/>
            <a:ext cx="6765480" cy="306360"/>
            <a:chOff x="577800" y="6389640"/>
            <a:chExt cx="6765480" cy="306360"/>
          </a:xfrm>
        </p:grpSpPr>
        <p:sp>
          <p:nvSpPr>
            <p:cNvPr id="110" name=""/>
            <p:cNvSpPr/>
            <p:nvPr/>
          </p:nvSpPr>
          <p:spPr>
            <a:xfrm>
              <a:off x="577800" y="6389640"/>
              <a:ext cx="67654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8200" y="6389640"/>
              <a:ext cx="66952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000" spc="-1" strike="noStrike" baseline="30000">
                  <a:solidFill>
                    <a:srgbClr val="000000"/>
                  </a:solidFill>
                  <a:latin typeface="Arial"/>
                  <a:ea typeface="Arial Unicode MS"/>
                </a:rPr>
                <a:t>1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KA shortcut for Market Availability what means a certain quantity at a certain time at a certain location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rot="5400000">
            <a:off x="1398960" y="5122080"/>
            <a:ext cx="652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660320" y="517500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1660320" y="538776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1660320" y="497196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5200" y="5046840"/>
            <a:ext cx="1247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65240" y="4429080"/>
            <a:ext cx="6765480" cy="1710720"/>
            <a:chOff x="1965240" y="4429080"/>
            <a:chExt cx="6765480" cy="1710720"/>
          </a:xfrm>
        </p:grpSpPr>
        <p:sp>
          <p:nvSpPr>
            <p:cNvPr id="118" name=""/>
            <p:cNvSpPr/>
            <p:nvPr/>
          </p:nvSpPr>
          <p:spPr>
            <a:xfrm>
              <a:off x="1965240" y="4429080"/>
              <a:ext cx="6765480" cy="171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15640" y="4429080"/>
              <a:ext cx="6695280" cy="171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No Malpha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15  27.06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4  16.02.06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0  25.03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2   19.09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3  09.03.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0   08.04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25 15.11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1  23.05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3   05.01.06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- M0 workshop will be scheduled on Mar. 21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st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– Mar. 25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th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he 90% ID data for first mockup had been come out on Feb. 26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  <a:ea typeface="Arial Unicode MS"/>
                </a:rPr>
                <a:t>th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 The requirements of BT, external RF connector and rotated display are under investigation. The final decision will be available on Mar. 4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  <a:ea typeface="Arial Unicode MS"/>
                </a:rPr>
                <a:t>th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 rot="5400000">
            <a:off x="1395720" y="363132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1657080" y="3684600"/>
            <a:ext cx="128520" cy="125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1656720" y="3897000"/>
            <a:ext cx="12888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657080" y="348120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1960" y="3556080"/>
            <a:ext cx="1247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Qu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62000" y="3129120"/>
            <a:ext cx="6766200" cy="124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38320" y="3090960"/>
            <a:ext cx="66960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15  22.07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4  17.03.0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0  3.4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2   07.10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3  07.04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0   29.04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25 22.12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1  25.05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3   10.2.0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KA</a:t>
            </a:r>
            <a:r>
              <a:rPr b="1" i="1" lang="en-US" sz="12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 17.03.06 (100k, VK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- No Malph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ffcc00"/>
                </a:solidFill>
                <a:latin typeface="Arial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ffcc00"/>
                </a:solidFill>
                <a:latin typeface="Arial"/>
                <a:ea typeface="Arial Unicode MS"/>
              </a:rPr>
              <a:t>First Primavera schedule does not reach MKA 01/06. Improvement ongoing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09:11:40Z</dcterms:created>
  <dc:creator>Claus Ziegler</dc:creator>
  <dc:description/>
  <dc:language>en-US</dc:language>
  <cp:lastModifiedBy>Claus Ziegler</cp:lastModifiedBy>
  <cp:lastPrinted>2004-02-29T14:41:19Z</cp:lastPrinted>
  <dcterms:modified xsi:type="dcterms:W3CDTF">2005-03-21T09:23:32Z</dcterms:modified>
  <cp:revision>1</cp:revision>
  <dc:subject/>
  <dc:title>PowerPoint Presentation</dc:title>
</cp:coreProperties>
</file>